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975-BC9C-43CE-90FB-D75F4565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EFF-322E-4528-BF51-299C823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878-88A0-4D81-A268-B67B82A9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420-BC56-4542-87BE-C612C41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011-013A-4E1C-B5E6-5415EB29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644-88B3-445D-8BE0-AE75574F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835-9B8A-49DA-8086-A0018FD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5FE-AE50-4762-9214-01A3C70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4D4-D4B6-4818-949D-3BBB1577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3CE-8E36-4933-B20C-03D01EC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684-3673-4A0F-8506-B01143A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3C3-4012-4F01-A625-3ABE075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715-F63B-4BC5-B75A-4F33D00040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41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8720" y="2362320"/>
            <a:ext cx="3297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cc99"/>
                </a:solidFill>
                <a:latin typeface="Arial"/>
              </a:rPr>
              <a:t>КОНЕ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00:05Z</dcterms:created>
  <dc:creator>DIMA</dc:creator>
  <dc:description/>
  <dc:language>en-US</dc:language>
  <cp:lastModifiedBy>DIMA</cp:lastModifiedBy>
  <dcterms:modified xsi:type="dcterms:W3CDTF">2003-03-28T12:10:47Z</dcterms:modified>
  <cp:revision>1</cp:revision>
  <dc:subject/>
  <dc:title>Заголовок слайда отсутствует</dc:title>
</cp:coreProperties>
</file>