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1CCD-157C-4697-82D5-8424DB4C0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E502-D078-4F35-A56C-1CD3B83DD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92C5-B3C8-4A7B-84AF-3F5C5156A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0E5C-A705-497F-BF25-6843F834E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83EB-F1F3-42A8-82FF-09B9A3AD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8466-78C8-4008-8A70-6C4D4861F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DE58-9B46-4F73-A75F-3B963B864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E368-D5B1-4631-86C1-1D08CA593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BC1C-F742-4508-A79D-6B0349643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533B-C9A4-4BB4-BDF5-B9912CA5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5936-D6B6-4697-ADBA-6F28DC28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617B-B1CF-4A11-BFE5-3A4CBE6B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70DCD-B1B9-4ACE-B9D5-E96D4AF35F1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" descr=""/>
          <p:cNvPicPr/>
          <p:nvPr/>
        </p:nvPicPr>
        <p:blipFill>
          <a:blip r:embed="rId1"/>
          <a:stretch/>
        </p:blipFill>
        <p:spPr>
          <a:xfrm>
            <a:off x="1600200" y="304920"/>
            <a:ext cx="614196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10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8610480" cy="50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11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8458200" cy="52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12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84582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13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8534160" cy="53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14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845820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15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8610480" cy="55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16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534160" cy="567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17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53416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898720" y="2362320"/>
            <a:ext cx="32972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cc99"/>
                </a:solidFill>
                <a:latin typeface="Arial"/>
              </a:rPr>
              <a:t>КОНЕЦ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2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822960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3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45820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4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53416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5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8458200" cy="577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6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772400" cy="62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7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229600" cy="60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8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45820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9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619760" cy="60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8T12:00:05Z</dcterms:created>
  <dc:creator>DIMA</dc:creator>
  <dc:description/>
  <dc:language>en-US</dc:language>
  <cp:lastModifiedBy>DIMA</cp:lastModifiedBy>
  <dcterms:modified xsi:type="dcterms:W3CDTF">2003-03-28T12:10:47Z</dcterms:modified>
  <cp:revision>1</cp:revision>
  <dc:subject/>
  <dc:title>Заголовок слайда отсутствует</dc:title>
</cp:coreProperties>
</file>