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008-4E1A-42A1-8EF5-4957213D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078-A9F5-49F8-ABA8-63A835E2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F1E-31BB-4FAA-8750-19759C16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7AA-1C90-4F0E-9C0F-A5CDE17A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0CC-F504-4B00-9274-5597B34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A4F-8B77-4824-BEBC-4CE357C2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58F-8B7F-4B1A-AFDC-4A1DC04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BF7-64A1-4BB5-97F9-947B897C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E1F-9A50-4781-A0D7-00A7218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D6B-F402-4B3E-834D-FC14A4C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E23-CD40-4305-8680-C7EE65A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39E-9670-41D2-B8F6-A0E464B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348E-BFB0-433E-A128-3D22F9258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5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6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7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8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9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0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2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2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5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6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8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9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0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3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5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32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35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6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6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7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8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9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0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3:25:37Z</dcterms:created>
  <dc:creator>2003</dc:creator>
  <dc:description/>
  <dc:language>en-US</dc:language>
  <cp:lastModifiedBy>2003</cp:lastModifiedBy>
  <dcterms:modified xsi:type="dcterms:W3CDTF">2004-02-06T13:26:00Z</dcterms:modified>
  <cp:revision>1</cp:revision>
  <dc:subject/>
  <dc:title>Презентация PowerPoint</dc:title>
</cp:coreProperties>
</file>