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4B4-3904-44A8-8021-256AB20D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68C-09B0-4DF8-9FE4-9441FAF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7BC-67C8-44B9-A192-E89ABE8D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291-B11F-4A50-ABDF-538ECE61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D41-E929-4C53-B4EF-2ED0861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79B-7C28-401F-9B44-AA0284F1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0FA-0B63-415E-8AA2-541E461B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F18-CF68-4613-9B2C-F9349779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FCF-8FBD-45E9-A67B-E9CEF3B6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AF2-B9C9-4F9D-938B-08886986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D5C-E672-44D3-BD3A-B4F703B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FB2-72D9-4A47-B184-C4BFDE0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206-4127-42C7-A9D8-5251F0F0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5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7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8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9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2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8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9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0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3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2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6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8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9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3:25:37Z</dcterms:created>
  <dc:creator>2003</dc:creator>
  <dc:description/>
  <dc:language>en-US</dc:language>
  <cp:lastModifiedBy>2003</cp:lastModifiedBy>
  <dcterms:modified xsi:type="dcterms:W3CDTF">2004-02-06T13:26:00Z</dcterms:modified>
  <cp:revision>1</cp:revision>
  <dc:subject/>
  <dc:title>Презентация PowerPoint</dc:title>
</cp:coreProperties>
</file>