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AE4-CDC3-413B-ACDB-E8D51D85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0E5-E553-41B6-A71A-841D80B3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115-8471-4285-98C5-8C3D282B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F11-121A-46FA-9441-BDCE52FC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852-518E-4A3E-8B3D-1FBE2561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B2B-D229-4583-B520-8A570D1C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A95-3520-46F8-AAAB-81E14269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7F3-678F-4FCF-ABF4-7FA5501B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02E-7947-475F-8FA9-461EBC3B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EFF-1535-4C01-8175-28CAC25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44B-B80F-4B21-9E38-337B4E1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0E0-F317-41AC-93F2-136DDF09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83E2-BD7D-4DA8-9308-12289B5A73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ot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ot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ot1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ot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ot1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ot1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ot15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ot1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ot1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ot1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t19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ot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kot20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t2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kot2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ot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ot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ot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ot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ot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ot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ot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9:57:43Z</dcterms:created>
  <dc:creator>DIMA</dc:creator>
  <dc:description/>
  <dc:language>en-US</dc:language>
  <cp:lastModifiedBy>DIMA</cp:lastModifiedBy>
  <dcterms:modified xsi:type="dcterms:W3CDTF">2003-03-21T09:58:11Z</dcterms:modified>
  <cp:revision>1</cp:revision>
  <dc:subject/>
  <dc:title>Заголовок слайда отсутствует</dc:title>
</cp:coreProperties>
</file>