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B60-E302-4E2A-9719-B4F3214E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852-9FB4-4A02-9738-BE9BB17D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B5D-02E0-426C-B763-DFD49710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9AC-611C-487E-A7FF-E79D92BF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D197-E417-4A6F-8113-EAEB6BBA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224-2E3C-4E7D-8064-78B6B7FE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04C-591E-4D96-ADB9-190F59FB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CF1-8249-4373-8AE4-2B0EA8A5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A70-7E3A-4AAF-AD55-D0354D2C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A22-FF23-46BB-B936-DF71DB1A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17C-8F5F-4462-812C-02DC0195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47B-D8CC-48E5-9B8D-40846DF4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7C12-D8E2-4039-BFAA-3FC10AB218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ot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ot10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ot1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ot1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ot1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kot1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ot15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kot1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ot1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kot18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t19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kot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kot20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t2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kot2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ot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ot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ot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kot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ot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ot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ot9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9:57:43Z</dcterms:created>
  <dc:creator>DIMA</dc:creator>
  <dc:description/>
  <dc:language>en-US</dc:language>
  <cp:lastModifiedBy>DIMA</cp:lastModifiedBy>
  <dcterms:modified xsi:type="dcterms:W3CDTF">2003-03-21T09:58:11Z</dcterms:modified>
  <cp:revision>1</cp:revision>
  <dc:subject/>
  <dc:title>Заголовок слайда отсутствует</dc:title>
</cp:coreProperties>
</file>