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4BE-1955-4057-B176-7BEDA7BD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958-CAE5-496B-A537-83F28895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713-F94D-43EB-85B5-39858E9E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B20-CFB8-4C5E-BF1C-DA0DAE2C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0FC-90F8-40D2-82C0-52E886FB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4CE-F7B0-47DD-B096-8D0B5E2A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165-CAF3-453B-9AF9-A3205EE9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98C-6A6F-4F0B-98A1-91AC1DDC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61B-6C68-4801-AD28-C3C3DDE8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50F-652D-43E1-9534-C31C20E7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0DE-7C89-4194-97E9-2BB06D16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CBF-A1D4-4B79-A34D-0D3E35FC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85A6-FB91-4199-8164-88DCC84085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ot1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ot1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ot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ot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ot5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kot6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ot8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kot9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ot1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kot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5341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t3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kot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ot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ot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ot5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kot6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229600" cy="59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ot7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ot8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ot9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17:25:49Z</dcterms:created>
  <dc:creator>DIMA</dc:creator>
  <dc:description/>
  <dc:language>en-US</dc:language>
  <cp:lastModifiedBy>DIMA</cp:lastModifiedBy>
  <dcterms:modified xsi:type="dcterms:W3CDTF">2003-04-25T17:26:09Z</dcterms:modified>
  <cp:revision>1</cp:revision>
  <dc:subject/>
  <dc:title>Заголовок слайда отсутствует</dc:title>
</cp:coreProperties>
</file>