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0057-ACA6-4336-97D3-B31879AD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49F6-8762-4950-A7E5-A1606949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051-C05D-48A4-A633-971E276D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3443-AAD1-4D17-B4D2-3F40B7D2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B23-E7C1-477D-A985-BC0F8025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07A-D644-4815-8CDD-43652C76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9F0-211B-49A4-A9BD-DC23A51C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C9E-A12A-4CDA-9808-5A34C526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1CD-ED0F-470C-9637-8D681B68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8633-A759-40AF-8483-968E6773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3D4C-4DBA-4C06-A1B4-78E1A447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0553-47FB-4FFC-A15E-96811580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2D4F-315C-4FDA-A616-8B5260BE69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ot1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2504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ot1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kot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kot4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kot5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kot6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kot8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kot9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ot1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582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kot2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5341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t3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kot2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15328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kot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532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kot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kot5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kot6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229600" cy="59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ot7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ot8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kot9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17:25:49Z</dcterms:created>
  <dc:creator>DIMA</dc:creator>
  <dc:description/>
  <dc:language>en-US</dc:language>
  <cp:lastModifiedBy>DIMA</cp:lastModifiedBy>
  <dcterms:modified xsi:type="dcterms:W3CDTF">2003-04-25T17:26:09Z</dcterms:modified>
  <cp:revision>1</cp:revision>
  <dc:subject/>
  <dc:title>Заголовок слайда отсутствует</dc:title>
</cp:coreProperties>
</file>