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28DA-8850-47B4-880E-3A49ACDA4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086F-8CDE-4A5F-9452-1A9B4B9A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FFC0-B802-4637-AD20-A6AF43271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A250-EF09-480F-AEC3-78313EAAB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A024-4FF7-4C32-9943-4F958338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B345-BE1A-4EC4-AADD-F85F2C7F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56EB-B5A4-42E6-B166-690CCE81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16DC-EE03-4F72-A621-3CEE94F6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148F-918E-4D6D-A39B-004D3D59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0D92-C910-41DE-A08D-FD86CD0C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1009-FA4C-4F9F-8D05-22CFDBD1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78FA-1072-4432-A5ED-9316A125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B539-84B5-452F-9488-FB789CE44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391520" cy="62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0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53816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1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53499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2" descr=""/>
          <p:cNvPicPr/>
          <p:nvPr/>
        </p:nvPicPr>
        <p:blipFill>
          <a:blip r:embed="rId1"/>
          <a:stretch/>
        </p:blipFill>
        <p:spPr>
          <a:xfrm>
            <a:off x="2971800" y="990720"/>
            <a:ext cx="3314880" cy="3120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896560" y="4648320"/>
            <a:ext cx="358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cc"/>
                </a:solidFill>
                <a:latin typeface="Times New Roman"/>
              </a:rPr>
              <a:t>КОНЕ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2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51148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999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4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53103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5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52898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6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5257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7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50626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8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869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9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879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0T07:31:38Z</dcterms:created>
  <dc:creator>2003</dc:creator>
  <dc:description/>
  <dc:language>en-US</dc:language>
  <cp:lastModifiedBy>2003</cp:lastModifiedBy>
  <dcterms:modified xsi:type="dcterms:W3CDTF">2004-01-10T07:32:16Z</dcterms:modified>
  <cp:revision>1</cp:revision>
  <dc:subject/>
  <dc:title>Презентация PowerPoint</dc:title>
</cp:coreProperties>
</file>