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D4C7-EE92-4185-A4E8-53E220687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D9EF-B821-425C-AE7E-AD48B57C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8F9E-8FB6-4B39-B063-3ED944BFF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4FB0-BE04-430C-BBC4-43D9EDC38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F226-40BE-4730-B7C0-5B39BF39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05A8-271F-4272-87D9-989CFECC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B0CD-BE03-4700-A79C-BB6E9937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A8C2-5B08-4CB7-AC52-16F6D81B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A885-FB35-42D7-B230-EC777351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BACF-4B38-40FF-B670-03558759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CCDB-4150-4302-8E4E-AA299CF3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8D36-0448-45C5-907F-757C35D4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AD13-3D90-467F-A726-0734BB10C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391520" cy="62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0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3816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1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3499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2" descr=""/>
          <p:cNvPicPr/>
          <p:nvPr/>
        </p:nvPicPr>
        <p:blipFill>
          <a:blip r:embed="rId1"/>
          <a:stretch/>
        </p:blipFill>
        <p:spPr>
          <a:xfrm>
            <a:off x="2971800" y="990720"/>
            <a:ext cx="3314880" cy="3120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896560" y="4648320"/>
            <a:ext cx="358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cc"/>
                </a:solidFill>
                <a:latin typeface="Times New Roman"/>
              </a:rPr>
              <a:t>КОНЕ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2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51148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999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4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53103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5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52898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6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5257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7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50626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8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869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9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879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0T07:31:38Z</dcterms:created>
  <dc:creator>2003</dc:creator>
  <dc:description/>
  <dc:language>en-US</dc:language>
  <cp:lastModifiedBy>2003</cp:lastModifiedBy>
  <dcterms:modified xsi:type="dcterms:W3CDTF">2004-01-10T07:32:16Z</dcterms:modified>
  <cp:revision>1</cp:revision>
  <dc:subject/>
  <dc:title>Презентация PowerPoint</dc:title>
</cp:coreProperties>
</file>